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BF377-9128-484A-9393-4030E80A32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E1F5F-A16C-4C49-9178-35957D441E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5A8F-E6BA-4291-89A4-57C65CA7E0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6DA9D-AC04-48D4-9B01-A486B3A01D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91D0F-B659-4674-9B00-7DE9AE944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4C401-1590-46E1-B5FB-AA623314F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F76B4-2A6B-432C-B8CC-1A4027C82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0DA35-831B-4F2E-B8A4-3C8D866AF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0E7EF-0E46-44F0-AB28-3DD7236E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33357-8786-45B8-A9C8-DBB1F025CD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C5702F-97BF-4A60-BE3A-387BC49545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21244-F67A-4DAD-A76D-9B87DE413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182E0EA-2703-428A-87E5-E1AF917EDE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5-10T22:04:20Z</dcterms:created>
  <dc:creator>Brion </dc:creator>
  <dc:description/>
  <dc:language>en-US</dc:language>
  <cp:lastModifiedBy/>
  <cp:revision>1</cp:revision>
  <dc:subject/>
  <dc:title/>
</cp:coreProperties>
</file>