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9B23E-FD90-47BE-9607-CB4B37F5E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F7E0-94D5-4D21-8D60-917281D96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6606-95F1-40F2-906A-4D65D2BF6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6F2D-ABFE-46D5-82B4-A4B7CF05D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C3B1-5921-46A8-98B9-4862FF572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5500-6ED1-4C0E-8E0C-D50BDCBFA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BC54-2097-43CC-8BC5-C9B2FC314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ED13-4615-41D5-941E-A399BB2A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6ADB-6FDB-44B4-B274-4EC6864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646E9-FF87-428C-B9A7-D5FD60F9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EBA4-BEC7-447D-B140-336CBB84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CFCC-4E71-46FE-B1F3-6306A0A1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8BCC7-D15A-4854-9D10-9617B18BB8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201600"/>
          <a:ext cx="8991720" cy="543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1600"/>
                    <a:ext cx="8991720" cy="54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429560" y="5751360"/>
            <a:ext cx="660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n Film Partnership Subcontract Budgets (out the door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02-2005 Actu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235560" y="341280"/>
            <a:ext cx="260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ubcontract $$$ out t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or has dropped 3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since 2002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7T21:00:55Z</dcterms:created>
  <dc:creator>Ken Zweibel</dc:creator>
  <dc:description/>
  <dc:language>en-US</dc:language>
  <cp:lastModifiedBy>Ken Zweibel</cp:lastModifiedBy>
  <dcterms:modified xsi:type="dcterms:W3CDTF">2005-07-28T14:45:18Z</dcterms:modified>
  <cp:revision>7</cp:revision>
  <dc:subject/>
  <dc:title>Slide 1</dc:title>
</cp:coreProperties>
</file>