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B06C6-9FE2-44DE-9206-4D1668A7B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8A52-05B2-41C2-A74E-7C78DFB9F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42E5-9E3E-4895-B6DE-86310163F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5C52-9247-47F1-86B0-E8DA23598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E81B-98BC-4C8B-936A-0481A19D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8936E-2B13-4883-A22F-E11DB2E8D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85C0-3D72-478B-BEEA-078D5054A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138B4-3C70-47D4-AB69-85A9019B4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FC86-8D74-4C98-B629-8DD7DC921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ECDE-B4EB-472E-9F6D-2AD3FDF0C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23B1-BB02-40F9-82B9-EA1D02A6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C384-3536-4A84-ABDF-791592476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08A5D-3E34-4E62-905F-859FBB3227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FL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838080" y="1825200"/>
            <a:ext cx="10515600" cy="4351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3"/>
          <p:cNvGraphicFramePr/>
          <p:nvPr/>
        </p:nvGraphicFramePr>
        <p:xfrm>
          <a:off x="1044720" y="2541600"/>
          <a:ext cx="1834920" cy="743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Object 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4720" y="2541600"/>
                    <a:ext cx="1834920" cy="7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20T01:59:40Z</dcterms:created>
  <dc:creator>Brian McColgan</dc:creator>
  <dc:description/>
  <dc:language>en-US</dc:language>
  <cp:lastModifiedBy>Allison, Timothy B.</cp:lastModifiedBy>
  <dcterms:modified xsi:type="dcterms:W3CDTF">2018-02-26T19:17:21Z</dcterms:modified>
  <cp:revision>1</cp:revision>
  <dc:subject/>
  <dc:title>PowerPoint Presentation</dc:title>
</cp:coreProperties>
</file>