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E1298-D26D-4008-ABF6-CA196AEC86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A08C-5088-4261-B0B9-C8D2794F2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DBC3-06DC-4EF4-8EE1-A617D7620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D4E7-EB54-4184-947A-3592E9ACF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C7D0E-3225-4E27-9E2A-E3942215A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7B0BA-3887-46ED-8637-00885D2FC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CAA1-0343-47CB-9212-0F6C1C5B9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1CDEA-80C3-4978-99E3-59DE92B8D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ACC3-DC95-4F81-909C-68749E8E2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C96AA-F230-4C98-9635-73F2EEC88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A78D-965F-487C-84AB-856D53D50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ED6F-47A0-4208-A66A-98D2E9431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AAAB9-1B54-41B2-B851-8BB2BD6E3F5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he quick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22T00:35:22Z</dcterms:created>
  <dc:creator>Allison, Timothy B.</dc:creator>
  <dc:description/>
  <dc:language>en-US</dc:language>
  <cp:lastModifiedBy>Allison, Timothy B.</cp:lastModifiedBy>
  <dcterms:modified xsi:type="dcterms:W3CDTF">2016-09-22T00:38:13Z</dcterms:modified>
  <cp:revision>2</cp:revision>
  <dc:subject/>
  <dc:title>The quick</dc:title>
</cp:coreProperties>
</file>