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1B13-B10A-4C40-A132-ECA3E1087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06D9-8C6E-4B81-A5D1-94A99D78D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2B48-19F2-4627-91A7-5533A3087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25DB4-163F-4860-A8D7-EA3688C9C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EC79-F9AB-4E90-86BD-78DFB8F3E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E22F-858E-41DB-B8D2-9CD7691A9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39903-0952-428B-9876-BC5E4D10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0651-A1E9-4C8D-85C4-BE8EBC1B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A1E76-2AD3-4578-B09A-C94195BAA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51B63-3E1B-4667-9A55-16E2A08B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72A6-C8AD-4D41-B842-7490225E9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78BC-4962-4CF6-A7EB-82DF44A6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81777-C326-424B-B20B-1381809C7A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5460840" y="2952720"/>
            <a:ext cx="1270080" cy="952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" name="Object 4"/>
          <p:cNvGraphicFramePr/>
          <p:nvPr/>
        </p:nvGraphicFramePr>
        <p:xfrm>
          <a:off x="1523880" y="1952640"/>
          <a:ext cx="2266920" cy="3208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3880" y="1952640"/>
                    <a:ext cx="2266920" cy="32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" name="Object 5"/>
          <p:cNvGraphicFramePr/>
          <p:nvPr/>
        </p:nvGraphicFramePr>
        <p:xfrm>
          <a:off x="8335800" y="1743120"/>
          <a:ext cx="2332080" cy="3017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8335800" y="1743120"/>
                    <a:ext cx="233208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8T12:40:36Z</dcterms:created>
  <dc:creator>Allison, Timothy B.</dc:creator>
  <dc:description/>
  <dc:language>en-US</dc:language>
  <cp:lastModifiedBy>Allison, Timothy B.</cp:lastModifiedBy>
  <dcterms:modified xsi:type="dcterms:W3CDTF">2016-06-28T12:41:11Z</dcterms:modified>
  <cp:revision>1</cp:revision>
  <dc:subject/>
  <dc:title>PowerPoint Presentation</dc:title>
</cp:coreProperties>
</file>